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32298"/>
        <c:axId val="31933592"/>
      </c:barChart>
      <c:catAx>
        <c:axId val="94032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33592"/>
        <c:crosses val="autoZero"/>
        <c:auto val="1"/>
        <c:lblAlgn val="ctr"/>
        <c:lblOffset val="100"/>
        <c:noMultiLvlLbl val="0"/>
      </c:catAx>
      <c:valAx>
        <c:axId val="31933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32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27B-43D9-4D14-8BDC-D4B3C393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223-D79F-43AC-894A-FBD63114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5F5-9B84-4790-8E2D-0E9E91BE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48B-B500-401C-A197-D44710CA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323-C84B-468E-BD48-62F23908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928-EDCE-4C83-B122-E16D4DDB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526-75BD-494B-855D-A6CAFE13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CA0-B54A-45A7-9A54-C1ECC62F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5EF-A50A-4734-B60E-ACA07980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3C3-25E4-42AF-8CFD-297CC9F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268-900A-4F60-8593-786B2A8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8B1-91FB-43C8-AE60-6C8D9DF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684E5-D356-4FD7-A0C0-D1BE084255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