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03071"/>
        <c:axId val="3249359"/>
      </c:barChart>
      <c:catAx>
        <c:axId val="82403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9359"/>
        <c:crosses val="autoZero"/>
        <c:auto val="1"/>
        <c:lblAlgn val="ctr"/>
        <c:lblOffset val="100"/>
        <c:noMultiLvlLbl val="0"/>
      </c:catAx>
      <c:valAx>
        <c:axId val="3249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03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F4D-1F0B-49ED-A4F5-23B332D8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521-534C-48BF-90D2-A7B66EE7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1AB-B1EC-41A7-80C3-73B8320F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8D4-5D4B-4075-B18F-0C80EEB0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306-B946-4664-B7DB-C2CCEB48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0FB-3253-4555-BC5A-26BF05FA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D49-E419-4289-913A-3728B19A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63E-3DD6-4039-8A76-D3B9C19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6DA-A930-4B85-8479-CF0BA442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11B-285F-49E0-9493-38318FE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DEA-BCE1-4CC4-A33E-787C11C2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DED-B272-40A6-A239-10CBDE76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1BAC4-6E5C-4CA8-AE0C-329323A3E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