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56131"/>
        <c:axId val="92416579"/>
      </c:barChart>
      <c:catAx>
        <c:axId val="21456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16579"/>
        <c:crosses val="autoZero"/>
        <c:auto val="1"/>
        <c:lblAlgn val="ctr"/>
        <c:lblOffset val="100"/>
        <c:noMultiLvlLbl val="0"/>
      </c:catAx>
      <c:valAx>
        <c:axId val="92416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56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600-E87A-47DE-8E05-F5973686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FCF-4C5C-493E-B2AA-AF97F5C8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DF2-7873-4FF0-9AAA-B6CCDEF3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93B-1CA6-409B-85DE-797C748A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9E9-EF48-4966-9FDE-07885C8C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011-FEE9-437D-985D-87DFC589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922-9E6C-432C-A513-99B9CA3B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B8F-3E80-40DE-807B-215FB0A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C3C-102B-4ADA-A0D6-97E578C0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7BB-2005-49FD-A9FA-002E7FB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1A9-D24B-4BAD-97EA-9DE5245D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963-A477-4A33-8E5F-8FCFA70D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F43EE-048D-49F9-865F-5AFB26CB28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